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C1E-53D3-464C-B44F-C117D3DA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3EF-41AF-40AD-A45A-215AF037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864-4516-4500-AE92-C6210EB4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DE6-F7B1-4214-9C9E-BA2C1B28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D47-F2D7-4195-ABFF-71373E74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584-134B-4195-BF79-823609A1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69A-EA70-49EE-8582-2ED58159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A28-3B88-43B5-9462-89FBACB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ED2-56F9-44AF-9B85-81791CF9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2CB-21E3-4CB4-A160-EAFB672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B9E-9C13-42F7-A76B-337F705A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1B0-9EA8-4CF3-9AD7-DD8953CB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7A3C-E0D9-402E-8E3D-E5EC2FF42F1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73 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 viera nájde žiadúci cest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ra nájde žiaduci cesty cie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rť a hrob raz navždy už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atí 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 zem sa vráti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 viera nájde žiadúci cest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Jedi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ý za nás niesol kríž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vin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 z našich ús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de zn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 zem sa vráti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 viera nájde žiadúci cest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Pán a Krá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nás lás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smiernou milov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er a rado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vládne na ze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z neba vráti s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Timo</cp:lastModifiedBy>
  <dcterms:modified xsi:type="dcterms:W3CDTF">2012-08-27T10:51:17Z</dcterms:modified>
  <cp:revision>5</cp:revision>
  <dc:subject/>
  <dc:title>Bez nadpisu</dc:title>
</cp:coreProperties>
</file>